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9D4B-E530-4963-A618-FFF3004B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2973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7A40-9BEA-48AC-85CF-EAE9622C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12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8713-DAD4-4845-A219-5B25F48C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152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76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152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76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2832-134C-4DCE-A601-D6B401B1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D86-10B6-45CE-B4A7-DEED13CB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E7F4-A658-4FE6-B50F-EE023DF7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FC40-FDA4-41D2-A548-AF518514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1A4C-D505-489D-A3A0-99EBFAE1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206280"/>
            <a:ext cx="8075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A441-0698-49CE-BCA8-F8052E93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AB7D-D46A-47DB-B367-BAB583F5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12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4528-2F74-4ADD-8542-1D882A8E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8A95-722F-41C4-ADFE-A67B4565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1280" y="476676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6B97-9193-4AA7-B084-AC0DE4A7535B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11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0850-A584-4C03-A9D5-E4EDAAA9BC5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1"/>
          <p:cNvSpPr/>
          <p:nvPr/>
        </p:nvSpPr>
        <p:spPr>
          <a:xfrm>
            <a:off x="7010280" y="11160"/>
            <a:ext cx="2133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9D8F-BB03-426E-841C-4C71C3DC869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01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2143080" y="14292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РЕПОРТАЖ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ицей 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8"/>
          <p:cNvSpPr/>
          <p:nvPr/>
        </p:nvSpPr>
        <p:spPr>
          <a:xfrm>
            <a:off x="2935440" y="987480"/>
            <a:ext cx="3652560" cy="20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1 декабря прошел  интеллектуально-развлекательная игра  «Рыцарский турнир». Нашим учащимся 6 класса предстояло состязание в ловкости, эрудиции, скорости. Песни, юмор и дружба, стали главным «орудием» наших рыцарей 21 века. В завершение игры  был определен победитель «Рыцарского турнира» с присвоением гордого звания «Рыцарь года». А также определили самых активных участников в разных номинациях: Мероприятие произвело положительное  впечатление на участников и группу поддержки, ребята находились в бодром расположении духа, чувство товарищества и здоровая конкуренция еще больше сплотила учащихс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C:\Users\RH\Desktop\Новая папка (2)\IMG-20211211-WA0087.jpg"/>
          <p:cNvPicPr/>
          <p:nvPr/>
        </p:nvPicPr>
        <p:blipFill>
          <a:blip r:embed="rId2"/>
          <a:stretch/>
        </p:blipFill>
        <p:spPr>
          <a:xfrm>
            <a:off x="785880" y="107172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C:\Users\RH\Desktop\Новая папка (2)\IMG-20211211-WA0088.jpg"/>
          <p:cNvPicPr/>
          <p:nvPr/>
        </p:nvPicPr>
        <p:blipFill>
          <a:blip r:embed="rId3"/>
          <a:stretch/>
        </p:blipFill>
        <p:spPr>
          <a:xfrm>
            <a:off x="714240" y="3000240"/>
            <a:ext cx="2143440" cy="1785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C:\Users\RH\Desktop\Новая папка (2)\IMG-20211211-WA0089.jpg"/>
          <p:cNvPicPr/>
          <p:nvPr/>
        </p:nvPicPr>
        <p:blipFill>
          <a:blip r:embed="rId4"/>
          <a:stretch/>
        </p:blipFill>
        <p:spPr>
          <a:xfrm>
            <a:off x="3429000" y="3143160"/>
            <a:ext cx="2428920" cy="1660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C:\Users\RH\Desktop\Новая папка (2)\IMG-20211211-WA0090.jpg"/>
          <p:cNvPicPr/>
          <p:nvPr/>
        </p:nvPicPr>
        <p:blipFill>
          <a:blip r:embed="rId5"/>
          <a:stretch/>
        </p:blipFill>
        <p:spPr>
          <a:xfrm>
            <a:off x="6715080" y="1143000"/>
            <a:ext cx="2071800" cy="1554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C:\Users\RH\Desktop\Новая папка (2)\IMG-20211211-WA0095.jpg"/>
          <p:cNvPicPr/>
          <p:nvPr/>
        </p:nvPicPr>
        <p:blipFill>
          <a:blip r:embed="rId6"/>
          <a:stretch/>
        </p:blipFill>
        <p:spPr>
          <a:xfrm>
            <a:off x="6429240" y="3214800"/>
            <a:ext cx="235764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1"/>
          <p:cNvSpPr/>
          <p:nvPr/>
        </p:nvSpPr>
        <p:spPr>
          <a:xfrm>
            <a:off x="7010280" y="11160"/>
            <a:ext cx="2133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05EF-5B5D-48EF-B7BB-39D48323E88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0180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2143080" y="14292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РЕПОРТАЖ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ицей 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3"/>
          <p:cNvSpPr/>
          <p:nvPr/>
        </p:nvSpPr>
        <p:spPr>
          <a:xfrm>
            <a:off x="4419720" y="2419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971640" y="3219480"/>
            <a:ext cx="763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4572000" y="2571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"/>
          <p:cNvSpPr/>
          <p:nvPr/>
        </p:nvSpPr>
        <p:spPr>
          <a:xfrm>
            <a:off x="4724280" y="2724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7"/>
          <p:cNvSpPr/>
          <p:nvPr/>
        </p:nvSpPr>
        <p:spPr>
          <a:xfrm>
            <a:off x="4876920" y="28764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"/>
          <p:cNvPicPr/>
          <p:nvPr/>
        </p:nvPicPr>
        <p:blipFill>
          <a:blip r:embed="rId2"/>
          <a:stretch/>
        </p:blipFill>
        <p:spPr>
          <a:xfrm>
            <a:off x="3564000" y="1203480"/>
            <a:ext cx="2671560" cy="2520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3"/>
          <a:stretch/>
        </p:blipFill>
        <p:spPr>
          <a:xfrm>
            <a:off x="6588000" y="1131840"/>
            <a:ext cx="2232000" cy="2895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4"/>
          <a:stretch/>
        </p:blipFill>
        <p:spPr>
          <a:xfrm>
            <a:off x="900000" y="1131840"/>
            <a:ext cx="2081160" cy="2774880"/>
          </a:xfrm>
          <a:prstGeom prst="rect">
            <a:avLst/>
          </a:prstGeom>
          <a:ln w="0">
            <a:noFill/>
          </a:ln>
        </p:spPr>
      </p:pic>
      <p:sp>
        <p:nvSpPr>
          <p:cNvPr id="65" name="TextBox 15"/>
          <p:cNvSpPr/>
          <p:nvPr/>
        </p:nvSpPr>
        <p:spPr>
          <a:xfrm>
            <a:off x="1403280" y="422748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ЮНЫЕ ЗНАТОКИ РОДНО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1"/>
          <p:cNvSpPr/>
          <p:nvPr/>
        </p:nvSpPr>
        <p:spPr>
          <a:xfrm>
            <a:off x="7010280" y="11160"/>
            <a:ext cx="2133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D0DA-22F7-4F36-8EE5-288D5A18A8E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01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2143080" y="14292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РЕПОРТАЖ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ицей 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3419640" y="1203480"/>
            <a:ext cx="2592360" cy="223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"/>
          <p:cNvPicPr/>
          <p:nvPr/>
        </p:nvPicPr>
        <p:blipFill>
          <a:blip r:embed="rId3"/>
          <a:stretch/>
        </p:blipFill>
        <p:spPr>
          <a:xfrm>
            <a:off x="6372360" y="1131840"/>
            <a:ext cx="2376360" cy="2592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"/>
          <p:cNvPicPr/>
          <p:nvPr/>
        </p:nvPicPr>
        <p:blipFill>
          <a:blip r:embed="rId4"/>
          <a:stretch/>
        </p:blipFill>
        <p:spPr>
          <a:xfrm>
            <a:off x="755640" y="1131840"/>
            <a:ext cx="2376360" cy="2592360"/>
          </a:xfrm>
          <a:prstGeom prst="rect">
            <a:avLst/>
          </a:prstGeom>
          <a:ln w="0">
            <a:noFill/>
          </a:ln>
        </p:spPr>
      </p:pic>
      <p:sp>
        <p:nvSpPr>
          <p:cNvPr id="74" name="TextBox 13"/>
          <p:cNvSpPr/>
          <p:nvPr/>
        </p:nvSpPr>
        <p:spPr>
          <a:xfrm>
            <a:off x="1258920" y="379584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Я</a:t>
            </a:r>
            <a:r>
              <a:rPr b="1" lang="tt-RU" sz="2400" spc="-1" strike="noStrike">
                <a:solidFill>
                  <a:srgbClr val="002060"/>
                </a:solidFill>
                <a:latin typeface="Arial"/>
              </a:rPr>
              <a:t>ҢА ЕЛ БИЗӘКЛӘРЕ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2060"/>
                </a:solidFill>
                <a:latin typeface="Arial"/>
              </a:rPr>
              <a:t>(дәрес-проек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3T08:15:21Z</dcterms:created>
  <dc:creator>Ковалева Валерия Юрьевна</dc:creator>
  <dc:description/>
  <dc:language>en-US</dc:language>
  <cp:lastModifiedBy>Лилия Фаргатовна</cp:lastModifiedBy>
  <cp:lastPrinted>2021-02-04T07:26:50Z</cp:lastPrinted>
  <dcterms:modified xsi:type="dcterms:W3CDTF">2021-12-27T18:32:29Z</dcterms:modified>
  <cp:revision>472</cp:revision>
  <dc:subject/>
  <dc:title>Презентация PowerPoint</dc:title>
</cp:coreProperties>
</file>